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comehere.wav" ContentType="audio/x-wav"/>
  <Override PartName="/ppt/media/image2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DB3-FBD2-45C0-B22C-88B3090D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96B-B4F6-4780-AA31-6E4EE47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F68-C348-4107-99C8-855A57CB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EBC-C77C-48C4-B5F7-8F480183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BC8-1C4E-4375-952C-EBCA2899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AA3-C76E-4CE9-88CF-8153070F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EA2-21E1-4A4A-B50B-6E4D50B9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D23-CCF2-4E17-B510-0BD1D56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742-0241-4C5F-A3DE-D269803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8CC-C2C4-4ABA-96FA-E12ED0A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FEC-A7A7-436B-81B0-7C34869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B3F-1514-4D4E-A86B-2B0EE2F1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CE4-7B0A-4F29-BB40-976442F7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bbc.co.uk/nature/wildfacts/factfiles/picpops/908.shtml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omeher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YS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aks of Finch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42000" t="19335" r="10000" b="35337"/>
          <a:stretch/>
        </p:blipFill>
        <p:spPr>
          <a:xfrm>
            <a:off x="990720" y="2057400"/>
            <a:ext cx="716256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7002" t="17999" r="5003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36001" t="17999" r="5003" b="22000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7002" t="17999" r="5003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Overp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in a population, there ar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ffspring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du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in each generation than can possibly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rv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resources; lik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water,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pa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vailable to a population is limi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 there are many organisms with similar nutritional requirements, there must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etween them for the resources needed to surv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rvival of the Fit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ri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mong members of a population make some of them better adapted to the environmen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generally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-adap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dividuals that will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vironment is the agen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lection determining which species will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3160" y="1219320"/>
            <a:ext cx="4830840" cy="51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4002" t="12669" r="16000" b="9998"/>
          <a:stretch/>
        </p:blipFill>
        <p:spPr>
          <a:xfrm>
            <a:off x="457200" y="95400"/>
            <a:ext cx="8153280" cy="67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nvironment determines which traits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nefici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the survival of an organism in a particular habit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ed traits “good” tend to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tain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assed o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selection involves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ggl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organisms to survive and reproduce in a given enviro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Traits which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nefici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the survival of an organism in a particular environment tend to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tain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assed 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and therefor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crea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frequency within a popul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raits which ha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rvival value to an organism ten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min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requency from generation to generation.  Ex: ALB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environmental conditions change, traits that have low survival value may now have a greater survival valu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, traits that prove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vor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der new environmental conditions will increase in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Insects resistant to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sectic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make-up of some insects make the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sist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effects of insectic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the widespread use of insecticides, this trait was of no particular survival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increased use of insecticides, this trait developed a very hig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viv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insects with resistance to insecticides survived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roduc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ch more successfully than those lacking the tr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result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insecticide resistance has increased greatly in insect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Rat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ista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rodentici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t Immu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981520" cy="397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06684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1714680" cy="2505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Norway Rat"/>
          <p:cNvPicPr/>
          <p:nvPr/>
        </p:nvPicPr>
        <p:blipFill>
          <a:blip r:embed="rId4"/>
          <a:stretch/>
        </p:blipFill>
        <p:spPr>
          <a:xfrm>
            <a:off x="6553080" y="9144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Brown rat investigates wooden box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5715000"/>
            <a:ext cx="1885680" cy="85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Brown rat asleep in nest"/>
          <p:cNvPicPr/>
          <p:nvPr/>
        </p:nvPicPr>
        <p:blipFill>
          <a:blip r:embed="rId7"/>
          <a:stretch/>
        </p:blipFill>
        <p:spPr>
          <a:xfrm>
            <a:off x="228600" y="3657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Rep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viduals that survive and then reproduce transmit thes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ria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o their off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peci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velopment of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species occurs as variations or adaptations accumulate in a population over many gener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:  common ancestor  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Chimpanzees &amp;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ehe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45960"/>
            <a:ext cx="8686800" cy="6512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1880" y="347760"/>
            <a:ext cx="8218440" cy="616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81200" y="0"/>
            <a:ext cx="578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45960"/>
            <a:ext cx="868680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rvival of the Fit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0002" t="19335" r="8999" b="22000"/>
          <a:stretch/>
        </p:blipFill>
        <p:spPr>
          <a:xfrm>
            <a:off x="609480" y="-44280"/>
            <a:ext cx="8001000" cy="69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8004" t="17999" r="5999" b="23335"/>
          <a:stretch/>
        </p:blipFill>
        <p:spPr>
          <a:xfrm>
            <a:off x="304920" y="0"/>
            <a:ext cx="8610480" cy="676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7002" t="17999" r="5003" b="23335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9:13:12Z</dcterms:created>
  <dc:creator>JOE SAC</dc:creator>
  <dc:description/>
  <dc:language>en-US</dc:language>
  <cp:lastModifiedBy>Eastchester Union Free School District</cp:lastModifiedBy>
  <dcterms:modified xsi:type="dcterms:W3CDTF">2006-06-20T19:22:16Z</dcterms:modified>
  <cp:revision>3</cp:revision>
  <dc:subject/>
  <dc:title>NYS Lab Beaks of Finches</dc:title>
</cp:coreProperties>
</file>